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C7D1-1B1B-4D32-A301-0369D8AA3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E32E-A547-4C76-A9D8-F55C78CF1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B71-1788-47A4-BB82-30F0179D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E61-A40E-4C26-B0B9-56EF903E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02A-70C1-4033-8505-5CDB696F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F28-92BA-4ADD-B21B-1FD04E05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3EA-AD3C-4B9D-B032-5AAEDC23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589-D864-499F-B3A3-D8853583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E7B-E34B-4FA2-9422-1EFC6EB9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6E0-AC83-4E0A-A8C1-F44B33FD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EA8-4AB9-418A-8232-F4D31B9D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EB9-3B9A-40EA-81BC-7E74E3B3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1D6-4577-4D71-9CA5-0DACD76E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6CF-7550-4E02-A9A6-DAB363A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05E0-9631-4593-9CF2-740EDE948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ixthsense.cz/dent/?page=12&amp;protetik=10" TargetMode="External"/><Relationship Id="rId2" Type="http://schemas.openxmlformats.org/officeDocument/2006/relationships/hyperlink" Target="http://www.sixthsense.cz/dent/?page=12&amp;protetik=10" TargetMode="External"/><Relationship Id="rId3" Type="http://schemas.openxmlformats.org/officeDocument/2006/relationships/hyperlink" Target="http://www.sixthsense.cz/dent/?page=12&amp;protetik=10" TargetMode="External"/><Relationship Id="rId4" Type="http://schemas.openxmlformats.org/officeDocument/2006/relationships/hyperlink" Target="http://www.sixthsense.cz/dent/?page=12&amp;protetik=10" TargetMode="External"/><Relationship Id="rId5" Type="http://schemas.openxmlformats.org/officeDocument/2006/relationships/hyperlink" Target="http://www.sixthsense.cz/dent/?page=12&amp;protetik=10" TargetMode="External"/><Relationship Id="rId6" Type="http://schemas.openxmlformats.org/officeDocument/2006/relationships/hyperlink" Target="http://www.sixthsense.cz/dent/?page=12&amp;protetik=10" TargetMode="External"/><Relationship Id="rId7" Type="http://schemas.openxmlformats.org/officeDocument/2006/relationships/hyperlink" Target="http://www.sixthsense.cz/dent/?page=12&amp;protetik=10" TargetMode="External"/><Relationship Id="rId8" Type="http://schemas.openxmlformats.org/officeDocument/2006/relationships/hyperlink" Target="http://www.strelecdent.cz/zubni-nahrady/31" TargetMode="External"/><Relationship Id="rId9" Type="http://schemas.openxmlformats.org/officeDocument/2006/relationships/hyperlink" Target="http://www.strelecdent.cz/zubni-nahrady/31" TargetMode="External"/><Relationship Id="rId10" Type="http://schemas.openxmlformats.org/officeDocument/2006/relationships/hyperlink" Target="http://www.strelecdent.cz/zubni-nahrady/31" TargetMode="External"/><Relationship Id="rId11" Type="http://schemas.openxmlformats.org/officeDocument/2006/relationships/hyperlink" Target="http://www.strelecdent.cz/zubni-nahrady/31" TargetMode="External"/><Relationship Id="rId12" Type="http://schemas.openxmlformats.org/officeDocument/2006/relationships/hyperlink" Target="http://www.strelecdent.cz/zubni-nahrady/31" TargetMode="External"/><Relationship Id="rId13" Type="http://schemas.openxmlformats.org/officeDocument/2006/relationships/hyperlink" Target="http://www.strelecdent.cz/zubni-nahrady/31" TargetMode="External"/><Relationship Id="rId14" Type="http://schemas.openxmlformats.org/officeDocument/2006/relationships/hyperlink" Target="http://www.strelecdent.cz/zubni-nahrady/31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213372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ázev školy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Číslo projektu: CZ.1.07/1.5.00/34.095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zdělávací materiál:  Konstrukční prvky ČSN 1.dí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ázev materiálu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Y_32_INOVACE_ZSP.4.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um tvorby: 1. 11.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yučovací předmět, ročník, obor: ZSP, 4. ročník, Asistent zubního tech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r. Martina N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ac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Vzdělávací materiál využívá ICT při výuce a tím inovuje výuku praktického vyučování, zároveň motivuje a aktivuje žáky. Seznamuje žáky s jednoduchým rozdělením konstrukčních prvků s jejich funkcí a umístění. Tato prezentace má ještě další navazující 2. dí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755640" y="277920"/>
            <a:ext cx="7489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B) Nesponová zaří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ásuvné spoj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připojují snímatelnou náhradu k pilířovým zubům (fixní konstrukce)bez viditelného retenčního ram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ládají se ze dvou částí: 1. MAT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AT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var: kulička,váleček, stiskací knoflík, obsahuj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užinu, pero nebo klou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Chalupna\Desktop\zub_40.jpg"/>
          <p:cNvPicPr/>
          <p:nvPr/>
        </p:nvPicPr>
        <p:blipFill>
          <a:blip r:embed="rId1"/>
          <a:stretch/>
        </p:blipFill>
        <p:spPr>
          <a:xfrm>
            <a:off x="6948360" y="5373720"/>
            <a:ext cx="1511280" cy="124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74760" y="56595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Umístění nesponových zaří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části korunkové –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ntrakoronál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ně korunky –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xtrakoronál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tvené v koře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otevní třmen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patrice je třme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matrice jezd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leskopické korunk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zajišťuje retenci pomocí na sebe přesně naléhajících dvou plášť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OSTÁLOVÁ, T.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Fixní a snímatelná protetika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. 1. vyd. Praha: Grada, 2004. ISBN 80-247-0655-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1,2,3: Snímatelná protetika, skeletové náhrady.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 Sixthdense-dent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[online]. [cit. 2.10.2013].Dostupné z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www:&lt;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ixthsense.cz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dent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?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age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=12&amp;protetik=10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&gt; autor neuved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 4: Fotografii zhotovila, není-li uvedeno jinak, Mgr. Hana Chalupná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br. 5: Zásuvný spoj bredent [online]. [cit. 2.10.2013].Dostupné z www:&lt;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trelecdent.cz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zubni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nahrady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/31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&gt; autor neuved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360" y="1341000"/>
            <a:ext cx="7704000" cy="1150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46c0a"/>
                </a:solidFill>
                <a:latin typeface="Calibri"/>
              </a:rPr>
              <a:t>Konstrukční prvky ČS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Společné konstrukční prv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tevní prv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bilizač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ojovací prv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ělo náhr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Kotevní prv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držují náhradu v úste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braňují transverzálním a páčivým silám působících na náhra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9646"/>
                </a:solidFill>
                <a:latin typeface="Calibri"/>
              </a:rPr>
              <a:t>Funk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etence náhra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řenos Ž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tabilizace náhra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brání dislokaci náhrady při funk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Dělení kotevních prvk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Sp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esponová retenční zaří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suvné sp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ěrné třme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skopické a kónusové koru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A) Sp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sou povrchové retenční prvky, které obemykaj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hra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kce: 1. retenční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omáhají přenášet Ž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tabilizují náhrad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na má tři části: 1. retenční ramen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okluzní tr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tabilizační t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Calibri"/>
              </a:rPr>
              <a:t>Retenční rame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misťujeme většinou vestibulár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varově musí být dostatečně dlouhé a  pružn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hází dvěma kvadranty pod dělící lini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ělení: 1.  litá retenční ram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drátěná retenční ram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ýhoda: - ESTETIK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ehké páčení vlastních zubů náhradou při snímání a nasazová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C:\Users\Chalupna\Desktop\cast_snim_nahr.jpg"/>
          <p:cNvPicPr/>
          <p:nvPr/>
        </p:nvPicPr>
        <p:blipFill>
          <a:blip r:embed="rId1"/>
          <a:stretch/>
        </p:blipFill>
        <p:spPr>
          <a:xfrm>
            <a:off x="6877080" y="3789360"/>
            <a:ext cx="1735200" cy="1871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8360" y="5157720"/>
            <a:ext cx="270000" cy="976320"/>
          </a:xfrm>
          <a:prstGeom prst="upArrow">
            <a:avLst>
              <a:gd name="adj1" fmla="val 50000"/>
              <a:gd name="adj2" fmla="val 904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28000" y="3357720"/>
            <a:ext cx="270000" cy="976320"/>
          </a:xfrm>
          <a:prstGeom prst="downArrow">
            <a:avLst>
              <a:gd name="adj1" fmla="val 50000"/>
              <a:gd name="adj2" fmla="val 904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92920" y="3881520"/>
            <a:ext cx="59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39528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08200" y="40752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eef4"/>
                </a:solidFill>
                <a:latin typeface="Calibri"/>
              </a:rPr>
              <a:t>Stabilizační rame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idně ukotvuje náhra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braňuje páčení vlastních zubů i náhrady při funk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í být vždy l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místěno orál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íhá nad i po dělící li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ub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C:\Users\Chalupna\Desktop\cast_snim_nahr.jpg"/>
          <p:cNvPicPr/>
          <p:nvPr/>
        </p:nvPicPr>
        <p:blipFill>
          <a:blip r:embed="rId1"/>
          <a:stretch/>
        </p:blipFill>
        <p:spPr>
          <a:xfrm>
            <a:off x="5651640" y="3357720"/>
            <a:ext cx="2950920" cy="2796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812000" y="5516640"/>
            <a:ext cx="414360" cy="976320"/>
          </a:xfrm>
          <a:prstGeom prst="upArrow">
            <a:avLst>
              <a:gd name="adj1" fmla="val 50000"/>
              <a:gd name="adj2" fmla="val 5890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4000" y="4221000"/>
            <a:ext cx="831960" cy="287640"/>
          </a:xfrm>
          <a:prstGeom prst="rightArrow">
            <a:avLst>
              <a:gd name="adj1" fmla="val 50000"/>
              <a:gd name="adj2" fmla="val 7230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28520" y="31129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eef4"/>
                </a:solidFill>
                <a:latin typeface="Calibri"/>
              </a:rPr>
              <a:t>Okluzní t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bilizuje náhradu ve funk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řenáší ŽT na sponový zu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umístěn v okluz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4" descr="DSC04830.JPG"/>
          <p:cNvPicPr/>
          <p:nvPr/>
        </p:nvPicPr>
        <p:blipFill>
          <a:blip r:embed="rId1"/>
          <a:stretch/>
        </p:blipFill>
        <p:spPr>
          <a:xfrm>
            <a:off x="4932360" y="4005360"/>
            <a:ext cx="3672000" cy="2646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4724280"/>
            <a:ext cx="1047600" cy="360360"/>
          </a:xfrm>
          <a:prstGeom prst="rightArrow">
            <a:avLst>
              <a:gd name="adj1" fmla="val 54898"/>
              <a:gd name="adj2" fmla="val 8947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3716280"/>
            <a:ext cx="342720" cy="976320"/>
          </a:xfrm>
          <a:prstGeom prst="downArrow">
            <a:avLst>
              <a:gd name="adj1" fmla="val 50000"/>
              <a:gd name="adj2" fmla="val 7121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6000" y="3429000"/>
            <a:ext cx="414000" cy="976320"/>
          </a:xfrm>
          <a:prstGeom prst="downArrow">
            <a:avLst>
              <a:gd name="adj1" fmla="val 50000"/>
              <a:gd name="adj2" fmla="val 589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Users\Chalupna\Desktop\cast_snim_nahr.jpg"/>
          <p:cNvPicPr/>
          <p:nvPr/>
        </p:nvPicPr>
        <p:blipFill>
          <a:blip r:embed="rId2"/>
          <a:stretch/>
        </p:blipFill>
        <p:spPr>
          <a:xfrm>
            <a:off x="900000" y="3933720"/>
            <a:ext cx="2951280" cy="279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24000" y="5445000"/>
            <a:ext cx="1193760" cy="432000"/>
          </a:xfrm>
          <a:prstGeom prst="rightArrow">
            <a:avLst>
              <a:gd name="adj1" fmla="val 50000"/>
              <a:gd name="adj2" fmla="val 690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3716280"/>
            <a:ext cx="431640" cy="1081080"/>
          </a:xfrm>
          <a:prstGeom prst="downArrow">
            <a:avLst>
              <a:gd name="adj1" fmla="val 50000"/>
              <a:gd name="adj2" fmla="val 6261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3716280"/>
            <a:ext cx="414360" cy="976320"/>
          </a:xfrm>
          <a:prstGeom prst="downArrow">
            <a:avLst>
              <a:gd name="adj1" fmla="val 50000"/>
              <a:gd name="adj2" fmla="val 5890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620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7120" y="37162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9120" y="357192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10:46:23Z</dcterms:created>
  <dc:creator>Hana Chalupná</dc:creator>
  <dc:description/>
  <dc:language>en-US</dc:language>
  <cp:lastModifiedBy>Chalupna</cp:lastModifiedBy>
  <dcterms:modified xsi:type="dcterms:W3CDTF">2013-11-16T10:57:57Z</dcterms:modified>
  <cp:revision>68</cp:revision>
  <dc:subject/>
  <dc:title>Snímek 1</dc:title>
</cp:coreProperties>
</file>